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9D6-23D4-4144-95D2-3AC5B3FD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3CF-91B8-40B5-AF2A-4E66722C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231-FDDB-4A5D-BDF7-4543B274B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C59-7F23-4714-A370-03624A66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34B-5BEC-46D6-869E-1ABB6990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817D-2E8E-413A-92E8-43FF56BA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9EC8-58EA-4449-8ED3-CF0ED179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F277-1368-49A6-A754-DB41AD11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52F-8549-4A1E-83AD-908CD4C4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800-8C06-42B0-8CCA-07C47643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7C01-399C-40A1-A52B-0B9610D0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786-F94A-40C3-990A-49B923B0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C81B-0420-49E5-9195-CD9D83D6BA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Form and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600200"/>
            <a:ext cx="181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free ve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ype or style of poem, e.g. lyric, narrative or epic poem, dramatic monologue, sonnet, ballad, ode, el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ape and organisation of a poem: layout, stanza length, line length, metre, rhyme scheme, other structural poetic devices, e.g. enjambement, caesu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em with no recognisable form, structure or rhyme pattern; often mirrors natural speech rhyth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yric po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arrative po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ramatic monolo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1320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hort poem of regular structure expressing the poet’s emo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ng poem which tells a story, often of an episode taken from history or my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ng poem in which an imagined or real speaker addresses a silent liste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181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onn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alla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77128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em of 14 lines using variable formal rhyme schemes, but often ending in a rhyming cou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ng-like poem narrating a story in short regular stanz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yric poem, often addressed to a particular su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em of serious reflection, often a lament for the d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231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ctet/octa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est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qua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u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8-line sta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6-line sta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4-line sta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-line sta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4920" y="1484280"/>
            <a:ext cx="208908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t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i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ri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et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ent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hex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627280" y="1484280"/>
            <a:ext cx="6059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mal division of a line of verse into measures or ‘feet’ (combinations of stressed and unstressed syllables) governing the rhythm/pace of the po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es of verse consisting of different numbers of ‘feet’: 2, 3, 4, 5 and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juxta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hyme sc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njamb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aesu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987280" y="160020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lacing ideas close together or in opposition for contrasting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ttern formed by the end-rhymes in lines of ve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tinuing a sentence into the next line or stanza without pausing at the end of a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using a sentence or idea mid-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4-12-18T12:03:52Z</dcterms:modified>
  <cp:revision>67</cp:revision>
  <dc:subject/>
  <dc:title>La Belle Dame Sans Merci</dc:title>
</cp:coreProperties>
</file>